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11B3-3A08-4E86-B623-07EB3652B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E5AF-0BB0-4E3C-9010-3CE3D9E76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9790-D472-4005-A76C-837E8237C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02A4-8A9F-48FF-A61D-EF76DD8570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B993-46CE-4945-9238-D13C9DDD21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D6AD-A04E-4615-9223-AE76E0276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E1FD-31AC-4C1E-AF47-6F60E83A3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1BB6-8DD2-4B61-AEF6-271E5DB91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FF2F-FE23-40D5-8058-AEB021E5A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6249-F140-4001-90E0-B2BB6A063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85CE-4B44-4033-AAC3-9D7195210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3133-7DBE-4526-A290-3876539EC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B523B3-DF6C-411B-842B-745A35323A6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4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780000" y="189000"/>
            <a:ext cx="4832280" cy="7207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2279160" y="14040"/>
            <a:ext cx="458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142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«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доброта и милосердие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"/>
          <p:cNvGrpSpPr/>
          <p:nvPr/>
        </p:nvGrpSpPr>
        <p:grpSpPr>
          <a:xfrm>
            <a:off x="281160" y="396720"/>
            <a:ext cx="8496000" cy="1930680"/>
            <a:chOff x="281160" y="396720"/>
            <a:chExt cx="8496000" cy="1930680"/>
          </a:xfrm>
        </p:grpSpPr>
        <p:pic>
          <p:nvPicPr>
            <p:cNvPr id="48" name="Picture 2" descr=""/>
            <p:cNvPicPr/>
            <p:nvPr/>
          </p:nvPicPr>
          <p:blipFill>
            <a:blip r:embed="rId1"/>
            <a:stretch/>
          </p:blipFill>
          <p:spPr>
            <a:xfrm>
              <a:off x="281160" y="396720"/>
              <a:ext cx="8496000" cy="19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3"/>
            <p:cNvSpPr/>
            <p:nvPr/>
          </p:nvSpPr>
          <p:spPr>
            <a:xfrm>
              <a:off x="281160" y="396720"/>
              <a:ext cx="849600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547640" y="2371680"/>
            <a:ext cx="6096240" cy="42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1"/>
          <p:cNvSpPr txBox="1"/>
          <p:nvPr/>
        </p:nvSpPr>
        <p:spPr>
          <a:xfrm>
            <a:off x="4643280" y="1428840"/>
            <a:ext cx="32076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a5002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a5002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Text Box 2"/>
          <p:cNvSpPr/>
          <p:nvPr/>
        </p:nvSpPr>
        <p:spPr>
          <a:xfrm flipV="1">
            <a:off x="-714240" y="3431880"/>
            <a:ext cx="140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179280"/>
                <a:tab algn="l" pos="1093680"/>
                <a:tab algn="l" pos="2008080"/>
                <a:tab algn="l" pos="2922480"/>
                <a:tab algn="l" pos="3836880"/>
                <a:tab algn="l" pos="4751280"/>
                <a:tab algn="l" pos="5665680"/>
                <a:tab algn="l" pos="6580080"/>
                <a:tab algn="l" pos="7494480"/>
                <a:tab algn="l" pos="8408880"/>
                <a:tab algn="l" pos="9323280"/>
                <a:tab algn="l" pos="10237680"/>
                <a:tab algn="l" pos="10858680"/>
                <a:tab algn="l" pos="11582280"/>
                <a:tab algn="l" pos="12306240"/>
                <a:tab algn="l" pos="13030200"/>
                <a:tab algn="l" pos="1375416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42920" y="357120"/>
            <a:ext cx="90010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                </a:t>
            </a: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это отзывчивость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душевное расположение к людям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стремление делать добро други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87280" y="2341440"/>
            <a:ext cx="6553440" cy="455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-146160" y="182520"/>
            <a:ext cx="3784680" cy="11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5720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Доброе слово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и кошке прият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Не ищи красоты,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а ищи добр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На добрый привет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добрый от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Жизнь дана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на добрые  д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Кто добро творит,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тот Бог отблагода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Group 2"/>
          <p:cNvGrpSpPr/>
          <p:nvPr/>
        </p:nvGrpSpPr>
        <p:grpSpPr>
          <a:xfrm>
            <a:off x="450720" y="268200"/>
            <a:ext cx="8240760" cy="1157400"/>
            <a:chOff x="450720" y="268200"/>
            <a:chExt cx="8240760" cy="1157400"/>
          </a:xfrm>
        </p:grpSpPr>
        <p:pic>
          <p:nvPicPr>
            <p:cNvPr id="58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0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4"/>
            <p:cNvSpPr/>
            <p:nvPr/>
          </p:nvSpPr>
          <p:spPr>
            <a:xfrm>
              <a:off x="450720" y="268200"/>
              <a:ext cx="82407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3635280" y="1557360"/>
            <a:ext cx="5267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311120" y="1628640"/>
            <a:ext cx="6589800" cy="439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33440" y="414360"/>
            <a:ext cx="8539200" cy="85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43:37Z</dcterms:created>
  <dc:creator>Лена</dc:creator>
  <dc:description/>
  <dc:language>en-US</dc:language>
  <cp:lastModifiedBy>Таисия</cp:lastModifiedBy>
  <dcterms:modified xsi:type="dcterms:W3CDTF">2021-02-07T08:26:48Z</dcterms:modified>
  <cp:revision>73</cp:revision>
  <dc:subject/>
  <dc:title>Слайд 1</dc:title>
</cp:coreProperties>
</file>